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B98-A9F1-4112-8A44-EADCA4A6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1F2-B09C-4C37-BA85-C8D5F82B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E85-82D1-45B1-A6CD-F49C4DB6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C0A-922D-441F-8157-F0798AA5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43FD-5720-478F-B7D1-4BAB8350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1AD0-1DF7-4691-8715-1EF6182F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17BA-95B1-402D-A9B8-ABB86E0D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7072-25D2-4226-9358-8CAD0124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824D-D913-4357-9C19-11647333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0D5A-82AD-4741-B33F-D11F6C5C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C8A5-7FF1-4800-82DD-816AA84B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04E-D040-4E0F-9264-8825BCC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CFEE-A440-460B-A34B-FC13565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AC5E-7104-434C-BF4F-DCC82169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0914-1DC1-45E2-B816-8C8ADA4D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28B7-5D5E-42BB-9C3E-1D44F18A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8A30-8120-4761-BC0F-C833DD40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595-07B2-4956-BF80-305B08B3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C0B-754D-4EF4-AF04-9003587F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38C-2645-4E9D-B25D-E7E11702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316-14B9-4476-AA61-1A47A9E7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B00-F83A-488E-8CAC-A002103F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447-85B8-47E7-ACEB-98191AAB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83E-B5B3-47F4-90F6-EC9FA89D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94C4-AB7B-4F31-8ACB-EFF0BF898AA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76A8-AFE2-4906-B879-0DB5D89C59B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63640" y="330120"/>
            <a:ext cx="590724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Romance de Fajardo (fronterizo a. 1466 ó 1477</a:t>
            </a:r>
            <a:r>
              <a:rPr b="0" lang="es-MX" sz="18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Jugando estaba el rey mo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y aun al ajedrez un dí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on aqueste buen fajard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on amor que le ten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Fajardo jugaba Lorc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y el rey moro, Almería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jaque le dio con el roque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el alférez le prend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 grandes voces dice el moro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La villa de Lorca es mía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llí  hablara Fajard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bien oiréis lo que decí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Calles, calles, señor rey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no toméis la tal porfí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aunque me la ganases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ella no se te darí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aballeros tengo dent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47840" y="617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7360" y="690480"/>
            <a:ext cx="341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te la defenderían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llí hablara rey mo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bien oiréis lo que decía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No juguemos más, Fajard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ni tengamos más porfía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sois tan buen caballe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todo el mundo os temía”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22:25:03Z</dcterms:created>
  <dc:creator> </dc:creator>
  <dc:description/>
  <dc:language>en-US</dc:language>
  <cp:lastModifiedBy> </cp:lastModifiedBy>
  <dcterms:modified xsi:type="dcterms:W3CDTF">2007-09-28T22:44:30Z</dcterms:modified>
  <cp:revision>2</cp:revision>
  <dc:subject/>
  <dc:title>Diapositiva 1</dc:title>
</cp:coreProperties>
</file>